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8CFE-66FA-468F-B129-AD9E2FF33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1E31-265D-456B-9B71-59174A79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66C3-7D0C-4902-926F-EBD3162ED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C84B-F398-468C-93AB-5B0ABD28B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EC06-59DE-4AAC-A8B4-1EA68306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0B22-1DE0-4E00-AF4E-04BAC694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DE5C-1D29-4316-AFCE-74C5996F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D22B-6FE2-4C73-BF29-3C09781F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679A-FE02-4CED-B246-9A6E33C9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7456-A535-4BDE-8A39-B6E619D6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7712-5743-4F40-A2AB-42599828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766F-9D33-4D2E-A5D8-5AFA680C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2DF0-36CC-4339-AAA0-C2C3A6FB4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ur Cor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ft (200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343160" y="846000"/>
            <a:ext cx="645624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343160" y="846000"/>
            <a:ext cx="645624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343160" y="846000"/>
            <a:ext cx="645624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84240" y="1042920"/>
            <a:ext cx="717408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984240" y="1042920"/>
            <a:ext cx="717408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84240" y="1042920"/>
            <a:ext cx="7174080" cy="47703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984240" y="1042920"/>
            <a:ext cx="717408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343160" y="846000"/>
            <a:ext cx="6456240" cy="5164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84240" y="1042920"/>
            <a:ext cx="717408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343160" y="846000"/>
            <a:ext cx="645624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84240" y="1042920"/>
            <a:ext cx="717408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343160" y="846000"/>
            <a:ext cx="645624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84240" y="1042920"/>
            <a:ext cx="717408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343160" y="846000"/>
            <a:ext cx="645624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84240" y="1042920"/>
            <a:ext cx="717408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1:44:18Z</dcterms:created>
  <dc:creator>Ministry of Education</dc:creator>
  <dc:description/>
  <dc:language>en-US</dc:language>
  <cp:lastModifiedBy>Ministry of Education</cp:lastModifiedBy>
  <dcterms:modified xsi:type="dcterms:W3CDTF">2011-04-18T12:01:51Z</dcterms:modified>
  <cp:revision>2</cp:revision>
  <dc:subject/>
  <dc:title>Colour Correction</dc:title>
</cp:coreProperties>
</file>